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2241-683B-4B3A-BE70-C2A5737E4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38A6-E93D-41E9-A1E7-240E98DC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D70C-89A7-48BF-B075-64AD9D77F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07BD-CA9F-447A-B596-E7780645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D6E8-231E-4A0F-8712-EB2A3964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FE61-FDF0-4527-8B62-E79E642E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21F1-D616-4737-8CB5-E0C385B9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E258-DAE8-40B9-9397-D544532B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6115-6787-494F-90FF-CB41B7BE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1CA2-188E-4C37-A36B-E61622FD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B100-13E8-4D38-A72B-D7151C3A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0785-D383-41FD-BC83-9DE2262E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C253-371E-418C-89C0-55C1BDD52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4:56:53Z</dcterms:created>
  <dc:creator>tatumadmin</dc:creator>
  <dc:description/>
  <dc:language>en-US</dc:language>
  <cp:lastModifiedBy>tatumadmin</cp:lastModifiedBy>
  <dcterms:modified xsi:type="dcterms:W3CDTF">2009-12-04T20:44:37Z</dcterms:modified>
  <cp:revision>1</cp:revision>
  <dc:subject/>
  <dc:title>Powerpoint </dc:title>
</cp:coreProperties>
</file>